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870-CD3A-4893-9690-104FF678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7CD-09AE-4D9A-A8ED-F8F6031B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DC1-080F-4AE4-8E46-63B19557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BE8-B196-4B09-B96A-F28E7FC9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2B6-6721-41CD-A156-E1792576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DEB-0EE0-4895-9349-BC6D525B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E0C-B45E-4940-A578-EB8057FD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FAD-D0BE-444E-BAD5-FAB0474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B66-4FFA-4812-B91F-DAD98626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3A74-6B64-4B05-ADB5-80A93154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088-DE09-4117-A30D-EFBEE6FD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A37-7FAF-4C92-917E-AEC0656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00C0-CA12-47D1-B2B1-24FB9158F5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458200" cy="1504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media.sms.at"/>
          <p:cNvPicPr/>
          <p:nvPr/>
        </p:nvPicPr>
        <p:blipFill>
          <a:blip r:embed="rId2"/>
          <a:stretch/>
        </p:blipFill>
        <p:spPr>
          <a:xfrm>
            <a:off x="3124080" y="1066680"/>
            <a:ext cx="3030480" cy="116064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Eurostile"/>
              </a:rPr>
              <a:t>Die Fi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gründet 1998 von Jürgen Pan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lerweile 25 Mitarbe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in der Zentrale in Gr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 der Mediasalesabteilung in W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e8"/>
                </a:solidFill>
                <a:latin typeface="Eurostile"/>
              </a:rPr>
              <a:t>Die Angeb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Bonus Ch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yspe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Handybö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Eurostile"/>
              </a:rPr>
              <a:t>Handy-Spec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ngeltö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, Poly- und Monophonklingeltö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ergrundbi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big und schwarz-wei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d-SMS und SMS-Sprü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33"/>
                </a:solidFill>
                <a:latin typeface="Eurostile"/>
              </a:rPr>
              <a:t>Dan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 bedanken uns bei d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s.at-Mitarbeitern und insbesondere bei Simone Liebmann für die freundliche Aufnahme und den interessanten Besuch bei sms.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kas Lienhart, Christan Paier, Tobias Hirsch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06:32:24Z</dcterms:created>
  <dc:creator>cpaier</dc:creator>
  <dc:description/>
  <dc:language>en-US</dc:language>
  <cp:lastModifiedBy>Bischöfliches Gymnasium</cp:lastModifiedBy>
  <dcterms:modified xsi:type="dcterms:W3CDTF">2005-06-12T08:59:25Z</dcterms:modified>
  <cp:revision>25</cp:revision>
  <dc:subject/>
  <dc:title>Folie 1</dc:title>
</cp:coreProperties>
</file>